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F65-4217-40AC-99F1-CCD768AF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67-D9B1-4C6C-A615-B53B663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C8A-2CD0-49E2-8CF5-36CDB830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F91-D0C1-46B0-83C3-CD11EC1E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B64-F1FE-4FAC-BB1B-C4775AA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669-482B-480E-9A5B-D3D26ECD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136-C296-47E8-9F65-BC0EC935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072-D5C5-4BB1-A639-9CB6842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07A-0332-4BC7-9B47-03CC979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E90-338D-4029-8979-5A450CC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58D-ED67-4EA2-A4B5-D52DB81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CA0-88A2-4DED-802B-55DD9D5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8DC-5BD3-449F-AC69-A7551FEB2FE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By:  Project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Date: dd mmm yyy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key lessons learned during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actions taken to implement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lusion/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-up the presentation and ask fo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background of project (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need/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goals/objectives of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down of final produ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major changes to the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project approach (e.g. phases, stages, work breakdo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hedule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schedule with key milest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variances and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udget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overall budge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variances and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&amp;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any major issues, the actions taken, and the final outcome/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46:22Z</dcterms:created>
  <dc:creator>AMC</dc:creator>
  <dc:description/>
  <cp:keywords/>
  <dc:language>en-US</dc:language>
  <cp:lastModifiedBy>AMC</cp:lastModifiedBy>
  <dcterms:modified xsi:type="dcterms:W3CDTF">2013-11-12T21:01:47Z</dcterms:modified>
  <cp:revision>10</cp:revision>
  <dc:subject>Project Management</dc:subject>
  <dc:title>Project Summary Presentation</dc:title>
</cp:coreProperties>
</file>