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2BC-EF22-4114-9573-0D8B2B1E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A9E-B2D7-4807-B216-48CC319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065-8493-4053-BE7B-8A53C8E5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AA5-3BB6-4936-B5E8-51AF2C4B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067-AE73-48DA-B04F-07426C7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CF7-E6AD-49EB-B8EE-3E74C1C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FE7-BB95-4CBE-B611-C47277F8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6C6-0343-4920-B716-845780F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0A0-8EEC-4C2B-B39D-C617607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16F-BC86-4DD3-A195-9D16836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0D6-3811-4DD3-BEC2-F99D0B5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17B-113E-4FA6-8660-C7F8AA5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9D8-0FBC-49EE-8C31-4276FCC4C78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By:  Project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Date: dd mmm yyy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key lessons learned during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actions taken to implement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lusion/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-up the presentation and ask fo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background of project (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need/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goals/objectives of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down of final produ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major changes to the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project approach (e.g. phases, stages, work breakdo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hedule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schedule with key milest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variances and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udget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overall budge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variances and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&amp;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any major issues, the actions taken, and the final outcome/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46:22Z</dcterms:created>
  <dc:creator>AMC</dc:creator>
  <dc:description/>
  <cp:keywords/>
  <dc:language>en-US</dc:language>
  <cp:lastModifiedBy>AMC</cp:lastModifiedBy>
  <dcterms:modified xsi:type="dcterms:W3CDTF">2013-11-12T21:01:47Z</dcterms:modified>
  <cp:revision>10</cp:revision>
  <dc:subject>Project Management</dc:subject>
  <dc:title>Project Summary Presentation</dc:title>
</cp:coreProperties>
</file>